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02A5E0-E978-437D-88F9-2D0D9FBB0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e importance of documentation in getting through an aud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 your files – consta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bility to get through an audit as quickly and painlessly as possible depends on being able to provide the backup docu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your success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the rules about how long to keep someth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mportant to emphasize the second point. This is often a big reason why people get CIPA findings in their audits. Generally, schools did their Public Hearings many years ago, but the proof has gotten lost.  During the audit, they are then unable to prove their compliance, it becomes a finding and we have to rescind fund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fix years past but you can fix the problem going forward by having a new hearing, creating and then saving the document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F5AE6-17C8-4D83-A824-027EAE027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8D1DC-1D6F-48C2-BF2A-C48255230C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58B5C-2B0D-400D-A5DD-575E3B774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42B02-6FC7-4408-8260-5442EC5A5F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19B05-3CA8-4EAB-A769-88B157FB4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5747A8-DB1F-4CFA-91A3-81A6E8F7E5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A964F6-7396-4E11-9606-82CC89EA63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70609-9E5E-4182-9811-672AE229D2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6F1FE4E-C4C3-48AA-9B5B-E3817FF57F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BA0CFA6-AC7F-49D7-A277-6FF99F9AF6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965F47-75A6-47EF-9628-4B5B3FA05A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56A8D4-3D67-410F-916E-E6CD8F76D8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6D10-FF00-4802-BC0F-6F53AA1AA2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18BFB3-328B-427C-81EB-AEBB24ADE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2CAB68-B4DC-4F2A-85CB-D6C66464FD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5842D2-DED9-45E4-8FD6-194418F350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C032601-6EAF-4777-B9ED-620EFB60F6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13D39E7-BF1C-4B86-87AD-E73372DA76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C7797B-8211-41E1-9D95-6F2080DE3C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F06C25-E29D-497B-9DD5-AE18A990BF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AD7B68-2C07-4F1C-9759-4BCBBC719C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B756C3-CDA7-456A-AA59-4DB9419B85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8477726-6D22-41E3-8E3F-6625295FC0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42A49-9E1B-49E9-8E0C-3FF962A3B7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5118166-0C75-48E8-BB87-C6A4714ED75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1E532E8-3A08-4216-97B3-6C356A0A0A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4D468CC-C6BC-4AF8-9087-14C6A5E6C4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C301645-BC7E-43C6-8FCD-D2AEDF3C67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780C384-ACCA-4E45-8899-D4AF3A436C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9CA6AC5-C307-418B-89BA-A0BA08C8C4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DBC312A-6043-45F3-A91A-27E6D96A2D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65079-5CEA-4634-8ED7-2DEEDAB75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E8D5471-9269-4985-84D1-54821A9DA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3AA0ED-01B7-4333-858B-E695E6373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F3B71-28A0-4E19-8D2C-1EDE2D8AF5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7DBF6-AD38-4C83-8C14-7B68E4AF9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12480-D8DF-4ACB-B315-78138701D5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3" name="Picture 10" descr=""/>
          <p:cNvPicPr/>
          <p:nvPr/>
        </p:nvPicPr>
        <p:blipFill>
          <a:blip r:embed="rId2"/>
          <a:stretch/>
        </p:blipFill>
        <p:spPr>
          <a:xfrm>
            <a:off x="0" y="-76320"/>
            <a:ext cx="2286000" cy="2973600"/>
          </a:xfrm>
          <a:prstGeom prst="rect">
            <a:avLst/>
          </a:prstGeom>
          <a:ln w="0">
            <a:noFill/>
          </a:ln>
        </p:spPr>
      </p:pic>
      <p:sp>
        <p:nvSpPr>
          <p:cNvPr id="4" name="PlaceHolder 3"/>
          <p:cNvSpPr>
            <a:spLocks noGrp="1"/>
          </p:cNvSpPr>
          <p:nvPr>
            <p:ph type="sldNum" idx="1"/>
          </p:nvPr>
        </p:nvSpPr>
        <p:spPr>
          <a:xfrm>
            <a:off x="4038480" y="624492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BF5B-276C-4BF6-A3A1-DAEE11EA3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7924320" y="650700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56b2"/>
                </a:solidFill>
                <a:latin typeface="Arial"/>
              </a:rPr>
              <a:t>www.usac.org</a:t>
            </a:r>
            <a:endParaRPr b="0" lang="en-US" sz="1200" spc="-1" strike="noStrike">
              <a:solidFill>
                <a:srgbClr val="000000"/>
              </a:solidFill>
              <a:latin typeface="Arial"/>
            </a:endParaRPr>
          </a:p>
        </p:txBody>
      </p:sp>
      <p:pic>
        <p:nvPicPr>
          <p:cNvPr id="42" name="Picture 7" descr=""/>
          <p:cNvPicPr/>
          <p:nvPr/>
        </p:nvPicPr>
        <p:blipFill>
          <a:blip r:embed="rId2"/>
          <a:stretch/>
        </p:blipFill>
        <p:spPr>
          <a:xfrm>
            <a:off x="0" y="-76320"/>
            <a:ext cx="2286000" cy="2973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4190760" y="6244920"/>
            <a:ext cx="106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6AFE-11B4-42CD-B4F7-09792867F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83" name="Picture 10" descr=""/>
          <p:cNvPicPr/>
          <p:nvPr/>
        </p:nvPicPr>
        <p:blipFill>
          <a:blip r:embed="rId2"/>
          <a:stretch/>
        </p:blipFill>
        <p:spPr>
          <a:xfrm>
            <a:off x="0" y="-76320"/>
            <a:ext cx="2286000" cy="2973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3"/>
          </p:nvPr>
        </p:nvSpPr>
        <p:spPr>
          <a:xfrm>
            <a:off x="4038480" y="647676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92A9-9DFF-424F-AF81-864AA9C71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9"/>
          <p:cNvSpPr/>
          <p:nvPr/>
        </p:nvSpPr>
        <p:spPr>
          <a:xfrm>
            <a:off x="1371600" y="1676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am Compliance</a:t>
            </a:r>
            <a:endParaRPr b="0" lang="en-US" sz="4000" spc="-1" strike="noStrike">
              <a:solidFill>
                <a:srgbClr val="000000"/>
              </a:solidFill>
              <a:latin typeface="Arial"/>
            </a:endParaRPr>
          </a:p>
        </p:txBody>
      </p:sp>
      <p:sp>
        <p:nvSpPr>
          <p:cNvPr id="132" name="Text Box 12"/>
          <p:cNvSpPr/>
          <p:nvPr/>
        </p:nvSpPr>
        <p:spPr>
          <a:xfrm>
            <a:off x="228600" y="57913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 DC • Newark • Atlanta • Chicago • Orlando • Los Angeles • Portland • Houst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October 2009</a:t>
            </a:r>
            <a:endParaRPr b="0" lang="en-US" sz="1600" spc="-1" strike="noStrike">
              <a:solidFill>
                <a:srgbClr val="000000"/>
              </a:solidFill>
              <a:latin typeface="Arial"/>
            </a:endParaRPr>
          </a:p>
        </p:txBody>
      </p:sp>
      <p:sp>
        <p:nvSpPr>
          <p:cNvPr id="133" name="Rectangle 1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ing You Succee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Libraries Di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A6BA-58DD-42E4-B2DB-56CC5CF82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470 and RFP Issues</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must ensure that they post for the correct category of ser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A can switch the category of services if applicants make a mistake on their Form 471</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detail in Form 47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cannot just provide generic descriptions or laundry lists of products and service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must indicate multi-year contracts or voluntary contract extensions if desired; failure to do so may result in funding den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BE25-E362-4DD1-AB6E-2B9C8E4B7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dor Involvement</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 </a:t>
            </a:r>
            <a:r>
              <a:rPr b="1" lang="en-US" sz="2800" spc="-1" strike="noStrike">
                <a:solidFill>
                  <a:srgbClr val="ff0000"/>
                </a:solidFill>
                <a:latin typeface="Arial"/>
              </a:rPr>
              <a:t>canno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types of service the applicant will seek on a Form 47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applicants with the filling out of the FCC Form 470 which requires an applicant’s cert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e with prospective bid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competitive bidding process for the applic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ivy to information about the bid not shared with other potential bid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55CC-6241-4ED7-A3BD-25938962F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sing Restric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can set some requirements for bid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pplicants may require service providers to provide services that are compatible with one kind of system over another (e.g. Apple vs. Windo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qualifying Bidders</a:t>
            </a:r>
            <a:endParaRPr b="0" lang="en-US" sz="40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fications/disqualification factors must be spelled out to all interested parti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to all in Form 470 and/or RFP</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qualification factors are binary (eg yes/no) and cannot be scored on a r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this is multi-round evaluation and price must be primary in </a:t>
            </a:r>
            <a:r>
              <a:rPr b="1" lang="en-US" sz="2800" spc="-1" strike="noStrike">
                <a:solidFill>
                  <a:srgbClr val="000000"/>
                </a:solidFill>
                <a:latin typeface="Arial"/>
              </a:rPr>
              <a:t>every </a:t>
            </a:r>
            <a:r>
              <a:rPr b="0" lang="en-US" sz="2800" spc="-1" strike="noStrike">
                <a:solidFill>
                  <a:srgbClr val="000000"/>
                </a:solidFill>
                <a:latin typeface="Arial"/>
              </a:rPr>
              <a:t>round</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documentation of notice and review</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B3DB-A9FB-43A7-8940-56F1997AE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5DA6-7502-41AA-8AE8-3867FC5D87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dor Selection</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must retain all vendor selection document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winning and losing bids</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of the eligible goods and services must be the primary factor in all rou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determine remaining vendor selection criteria and relative weigh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C sample evaluation matrix availa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0678-5EA7-4DD0-9D04-6D548C729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Cost Effective</a:t>
            </a:r>
            <a:endParaRPr b="0" lang="en-US" sz="4000" spc="-1" strike="noStrike">
              <a:solidFill>
                <a:srgbClr val="000000"/>
              </a:solidFill>
              <a:latin typeface="Arial"/>
            </a:endParaRPr>
          </a:p>
        </p:txBody>
      </p:sp>
      <p:sp>
        <p:nvSpPr>
          <p:cNvPr id="175" name="PlaceHolder 2"/>
          <p:cNvSpPr>
            <a:spLocks noGrp="1"/>
          </p:cNvSpPr>
          <p:nvPr>
            <p:ph/>
          </p:nvPr>
        </p:nvSpPr>
        <p:spPr>
          <a:xfrm>
            <a:off x="457200" y="1357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winning bid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of the </a:t>
            </a:r>
            <a:r>
              <a:rPr b="0" lang="en-US" sz="2800" spc="-1" strike="noStrike">
                <a:solidFill>
                  <a:srgbClr val="ff0000"/>
                </a:solidFill>
                <a:latin typeface="Arial"/>
              </a:rPr>
              <a:t>ELIGIBLE</a:t>
            </a:r>
            <a:r>
              <a:rPr b="0" lang="en-US" sz="2800" spc="-1" strike="noStrike">
                <a:solidFill>
                  <a:srgbClr val="000000"/>
                </a:solidFill>
                <a:latin typeface="Arial"/>
              </a:rPr>
              <a:t> goods and services must be the primary fac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 including other price factors, can be considered as well but they cannot be weighted equally or higher than cost of the eligible goods and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Step 4: Construct An Evaluation</a:t>
            </a:r>
            <a:r>
              <a:rPr b="1" lang="en-US" sz="2800" spc="-1" strike="noStrike">
                <a:solidFill>
                  <a:srgbClr val="000000"/>
                </a:solidFill>
                <a:latin typeface="Arial"/>
              </a:rPr>
              <a:t> </a:t>
            </a:r>
            <a:r>
              <a:rPr b="0" lang="en-US" sz="2800" spc="-1" strike="noStrike">
                <a:solidFill>
                  <a:srgbClr val="000000"/>
                </a:solidFill>
                <a:latin typeface="Arial"/>
              </a:rPr>
              <a:t>for weighting s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3DCF-C044-4692-9ADB-E4F6625DF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Effectiveness</a:t>
            </a:r>
            <a:endParaRPr b="0" lang="en-US" sz="4000" spc="-1" strike="noStrike">
              <a:solidFill>
                <a:srgbClr val="000000"/>
              </a:solidFill>
              <a:latin typeface="Arial"/>
            </a:endParaRPr>
          </a:p>
        </p:txBody>
      </p:sp>
      <p:sp>
        <p:nvSpPr>
          <p:cNvPr id="178" name="PlaceHolder 2"/>
          <p:cNvSpPr>
            <a:spLocks noGrp="1"/>
          </p:cNvSpPr>
          <p:nvPr>
            <p:ph/>
          </p:nvPr>
        </p:nvSpPr>
        <p:spPr>
          <a:xfrm>
            <a:off x="457200" y="1447920"/>
            <a:ext cx="8229600" cy="45259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must be cost-effective (not just </a:t>
            </a:r>
            <a:r>
              <a:rPr b="0" i="1" lang="en-US" sz="2800" spc="-1" strike="noStrike">
                <a:solidFill>
                  <a:srgbClr val="000000"/>
                </a:solidFill>
                <a:latin typeface="Arial"/>
              </a:rPr>
              <a:t>the most</a:t>
            </a:r>
            <a:r>
              <a:rPr b="0" lang="en-US" sz="2800" spc="-1" strike="noStrike">
                <a:solidFill>
                  <a:srgbClr val="000000"/>
                </a:solidFill>
                <a:latin typeface="Arial"/>
              </a:rPr>
              <a:t> cost-effective)</a:t>
            </a:r>
            <a:endParaRPr b="0" lang="en-US" sz="28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sleta</a:t>
            </a:r>
            <a:r>
              <a:rPr b="0" lang="en-US" sz="2000" spc="-1" strike="noStrike">
                <a:solidFill>
                  <a:srgbClr val="000000"/>
                </a:solidFill>
                <a:latin typeface="Arial"/>
              </a:rPr>
              <a:t> Order, para. 54: Routers priced at two or three times greater than the prices available from commercial vendors would not be cost-effective, absent extenuating circumstances. </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ing only one bid does not automatically make it cost-effective</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nts must be able to explain why a solution with higher than average pricing is cost-effective. </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s specific an answer with as much objective information as possible.</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 may work with the applicant to help them understand the technical needs for this expensive solution. </a:t>
            </a:r>
            <a:endParaRPr b="0" lang="en-US" sz="2000" spc="-1" strike="noStrike">
              <a:solidFill>
                <a:srgbClr val="000000"/>
              </a:solidFill>
              <a:latin typeface="Arial"/>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B4C1-1CC7-450D-B71C-ACF0BF286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ervices</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and service providers are prohibited from using Schools and Libraries support to subsidize the procurement of ineligible or unrequested products and services or from participating in arrangements that have the effect of providing a discount level to applicants greater than that to which applicants are entitl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use E-rate to get free stuff (ineligible or eligible). You must back out the value of that stuff in your vendor selection process.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80"/>
                                        </p:tgtEl>
                                        <p:attrNameLst>
                                          <p:attrName>style.visibility</p:attrName>
                                        </p:attrNameLst>
                                      </p:cBhvr>
                                      <p:to>
                                        <p:strVal val="visible"/>
                                      </p:to>
                                    </p:set>
                                    <p:animEffect filter="fade" transition="in">
                                      <p:cBhvr additive="repl">
                                        <p:cTn id="7" dur="20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2" dur="2000"/>
                                        <p:tgtEl>
                                          <p:spTgt spid="18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 dur="2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884B-F4DD-4E5E-B31E-6EECC2F0E0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ervices</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educt the value of the “free stuff”, discounts, trade-in etc, from the pre-discount amount in order get equal comparison between offer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eligible goods and services cannot be inflated to cover the“free” ineligible stuff</a:t>
            </a:r>
            <a:endParaRPr b="0" lang="en-US" sz="3200" spc="-1" strike="noStrike">
              <a:solidFill>
                <a:srgbClr val="000000"/>
              </a:solidFill>
              <a:latin typeface="Arial"/>
            </a:endParaRPr>
          </a:p>
          <a:p>
            <a:pPr marL="343080" indent="-34308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portionate cost allocation is required between eligible and ineligible compon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F029-23A8-4FF9-B36A-821642A24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ervices Example</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 reb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for product = $100 pre-disc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ate of 20% is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apply for $80 ($100*80%) pre-discoun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ree products” included in a b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A: $10,000 including $1,000 of free 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B: $8,000 for products – no free 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mpa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A: $9,000 ($10,000 - $1,000) to Vendor B: $8,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E8CF-0F1C-4E4A-B01C-FAFE5418A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for Al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Plan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 470 and RFP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ve Bidd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or Selection Proces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ened Scrutin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dles to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48E0-4B82-4B7A-A679-FBE19E307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ying Non-Discount Share</a:t>
            </a:r>
            <a:endParaRPr b="0" lang="en-US" sz="4000" spc="-1" strike="noStrike">
              <a:solidFill>
                <a:srgbClr val="000000"/>
              </a:solidFill>
              <a:latin typeface="Arial"/>
            </a:endParaRPr>
          </a:p>
        </p:txBody>
      </p:sp>
      <p:sp>
        <p:nvSpPr>
          <p:cNvPr id="190" name="PlaceHolder 2"/>
          <p:cNvSpPr>
            <a:spLocks noGrp="1"/>
          </p:cNvSpPr>
          <p:nvPr>
            <p:ph/>
          </p:nvPr>
        </p:nvSpPr>
        <p:spPr>
          <a:xfrm>
            <a:off x="457200" y="1494000"/>
            <a:ext cx="8229600" cy="45259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t>
            </a:r>
            <a:r>
              <a:rPr b="1" lang="en-US" sz="2600" spc="-1" strike="noStrike">
                <a:solidFill>
                  <a:srgbClr val="000000"/>
                </a:solidFill>
                <a:latin typeface="Arial"/>
              </a:rPr>
              <a:t>no free lunch</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s will always have to pay at least 10% or more depending on their discount</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 providers cannot give the money (directly or indirectly) to pay for the non-discounted share</a:t>
            </a:r>
            <a:endParaRPr b="0" lang="en-US" sz="26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cannot come from the service provider or an entity controlled by the service provider where funding is contingent upon selecting that provide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provider bills can’t be ignored or waive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pplicant can’t show proof of payment during invoice review; invoice may be denied. </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2114-2CA2-4A2D-80F9-1CE6BA148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dget Review</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is for applicant to show us they can fund their sha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budget (or draft) has dates that cover the funding year (July – J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documentation should clearly identify applicant’s share (e.g., expense line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letter for reasonable expectation that funds secured by 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4DB3-FCE4-4529-BB6F-D7F508480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yment Plans</a:t>
            </a: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nts are required to pay their share at the same time that USAC pays the discount amoun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 certifies that the invoices they submit are for services that “have been billed to service provider’s customers.”</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deferred payment plans that allow the applicant to pay after USAC has paid will jeopardize a funding reques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C Rules include a presumption that the non-discount share will be paid within 90 days. </a:t>
            </a:r>
            <a:endParaRPr b="0" lang="en-US" sz="28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BC39-9CCC-4254-850B-56A1DBB3C5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ightened Scrutiny</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clude review of: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ary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Bidding and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 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questions based on potential violation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view Information Request (SRIR) contains some of the questions we may ask</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views will take additional time and will hold up commitments until they ar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7A6C-C545-47A6-9F4D-B7753587E8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cessary Resources</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 applicant’s certification that they have them.</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re end user computers?  </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have reasonable plans to fully utilize all internal connections for which you are requesting discounts (e.g., 2-year plan to get computers for all network drop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y have software to run on the computer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ff trained on how to use the technolog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ical capacit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they maintain the eligible and ineligible equip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6596-B63C-4E90-B5F7-ADF24A015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rtifications</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certify th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ecured access to necessary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omplied with all FCC, state and local competitive bidding and procurement re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discount portion of the costs for eligible services will not be paid by the service provid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kickbacks were paid to anyone and that false statements on this form can be punished by fine or forfei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comply with program rules could result in civil or criminal prosec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s who have been convicted of criminal violations or held civilly liable for certain acts arising from their participation in the program are subject to suspension and debarment from the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rtifications</a:t>
            </a:r>
            <a:endParaRPr b="0" lang="en-US" sz="40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Providers certify that:</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PIs, services have been billed to customers on behalf of eligible entities and for eligible services, and exclude charges already invoic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 if asked, must provide detailed cost breakouts of services to applic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be audi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were arrived at independently, without communicating with other bidders regarding pricing, intent to bid and how you determined your pri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prices won’t be disclosed to another bidder before the bid opening</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0E90-DF25-4CEF-8220-7B967499E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Delivery</a:t>
            </a:r>
            <a:endParaRPr b="0" lang="en-US" sz="40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 and applicants should work together to facilitate delivery of servi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receipt of ser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arties (SP and applicant) should monitor delivery of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rely on the other party’s reco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ocumentation of service delivery and any service interru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get Quarterly Disbursement Re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may request Invoice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F1B9-AC9E-46D3-BCDE-A4541CDA8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of Invoices</a:t>
            </a:r>
            <a:endParaRPr b="0" lang="en-US" sz="40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pp must review BEAR/SPI to ens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eligible services are being billed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ices that were approved on the application are being bille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were delivered consistent with the FCDL and any agreemen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ervice interruptions are accounted for</a:t>
            </a:r>
            <a:endParaRPr b="0" lang="en-US" sz="28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or discounts are apportioned to both USAC and the applica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A942-0556-445B-B36B-03D5CDEB68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ument Retention</a:t>
            </a:r>
            <a:endParaRPr b="0" lang="en-US" sz="40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retention timefr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from last date to receive servic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 – this is at least </a:t>
            </a:r>
            <a:r>
              <a:rPr b="0" lang="en-US" sz="2400" spc="-1" strike="noStrike">
                <a:solidFill>
                  <a:srgbClr val="ff0000"/>
                </a:solidFill>
                <a:latin typeface="Arial"/>
              </a:rPr>
              <a:t>June 30, 2016</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ocument from a </a:t>
            </a:r>
            <a:r>
              <a:rPr b="0" i="1" lang="en-US" sz="2800" spc="-1" strike="noStrike">
                <a:solidFill>
                  <a:srgbClr val="000000"/>
                </a:solidFill>
                <a:latin typeface="Arial"/>
              </a:rPr>
              <a:t>prior year </a:t>
            </a:r>
            <a:r>
              <a:rPr b="0" lang="en-US" sz="2800" spc="-1" strike="noStrike">
                <a:solidFill>
                  <a:srgbClr val="000000"/>
                </a:solidFill>
                <a:latin typeface="Arial"/>
              </a:rPr>
              <a:t>that supports current year must be kept until 5 years from last date to receive service as w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Contract from 2004, used to support FY 2010 FRNs, must be kept until at least </a:t>
            </a:r>
            <a:r>
              <a:rPr b="0" lang="en-US" sz="2800" spc="-1" strike="noStrike">
                <a:solidFill>
                  <a:srgbClr val="ff0000"/>
                </a:solidFill>
                <a:latin typeface="Arial"/>
              </a:rPr>
              <a:t>June 30, 2016</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D041-6C32-45BF-9B68-17A6741A9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6D00-2FF4-4DC8-99E2-590DB8382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 Your Role</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ech plan, file Form 470 and write RFP, evaluate bids, select provider, document the process, file Form 471, get tech plan approved, file Form 486, select invoice method, file BEAR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Provid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 to 470/RFPs, assist with preparing Item 21 attachments, provide technical answers on questions regarding specific goods and services requested, but NOT on competitive bidding; file SPIs and/or approve BEARs; file SPAC</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role of their client – either applicant or service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7EA8-9BEE-4149-B5DD-4A896C8A2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ed Your Files</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s must retain all precommitment documents that show compliance with all FCC rules</a:t>
            </a:r>
            <a:endParaRPr b="0" lang="en-US" sz="26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 complete list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Retention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Checklist</a:t>
            </a:r>
            <a:endParaRPr b="0" lang="en-US" sz="28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e Binder Table of Content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DBD1-9709-4FDD-8A45-E7FD39A25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ain, retain, retain</a:t>
            </a:r>
            <a:endParaRPr b="0" lang="en-US" sz="40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n documents to show your complian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ters of Agency and any agreements with all consulta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Plan (both draft and final approved version) and CTPA Plan Approval let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FP, including evidence of publication date and any solicitation you di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and all bids (winning and los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to yourself if you get no or one b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EB61-01C6-4323-AC63-417904BB3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ain, retain, retain</a:t>
            </a:r>
            <a:endParaRPr b="0" lang="en-US" sz="4000" spc="-1" strike="noStrike">
              <a:solidFill>
                <a:srgbClr val="000000"/>
              </a:solidFill>
              <a:latin typeface="Arial"/>
            </a:endParaRPr>
          </a:p>
        </p:txBody>
      </p:sp>
      <p:sp>
        <p:nvSpPr>
          <p:cNvPr id="226"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retain documents to show compliance: </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s describing bid evaluation criteria and weighting</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correspondence with potential bidder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s related to the selection of the service provider(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ned and dated copies of contrac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see further list on USAC website</a:t>
            </a:r>
            <a:endParaRPr b="0" lang="en-US" sz="2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r 5 years after last date to receive service – for FY 2010 </a:t>
            </a:r>
            <a:r>
              <a:rPr b="1" lang="en-US" sz="2800" spc="-1" strike="noStrike">
                <a:solidFill>
                  <a:srgbClr val="000000"/>
                </a:solidFill>
                <a:latin typeface="Arial"/>
              </a:rPr>
              <a:t>at least</a:t>
            </a:r>
            <a:r>
              <a:rPr b="0" lang="en-US" sz="2800" spc="-1" strike="noStrike">
                <a:solidFill>
                  <a:srgbClr val="000000"/>
                </a:solidFill>
                <a:latin typeface="Arial"/>
              </a:rPr>
              <a:t> June 30, 20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ain, retain, retain for SPs</a:t>
            </a:r>
            <a:endParaRPr b="0" lang="en-US" sz="40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Providers must retai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es of your b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signed with applic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with applicants regarding bidding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delivery of the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of any service down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s of maintenance perform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28F5-5D48-4EAA-8D12-C81D7D5D2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Hurdles</a:t>
            </a:r>
            <a:endParaRPr b="0" lang="en-US" sz="4000" spc="-1" strike="noStrike">
              <a:solidFill>
                <a:srgbClr val="000000"/>
              </a:solidFill>
              <a:latin typeface="Arial"/>
            </a:endParaRPr>
          </a:p>
        </p:txBody>
      </p:sp>
      <p:graphicFrame>
        <p:nvGraphicFramePr>
          <p:cNvPr id="231" name=""/>
          <p:cNvGraphicFramePr/>
          <p:nvPr/>
        </p:nvGraphicFramePr>
        <p:xfrm>
          <a:off x="457200" y="1274760"/>
          <a:ext cx="8229600" cy="512604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21 provides only generic product and service description (e.g. “servers” or “turnkey Internet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r must reach out for detailed description including make and model and specific use of the ser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5 days for applicant + 1 week for 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Invoicing team may look at the specifics in the Item 21 attachment to confirm eligibility of the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hereafter, 1 additional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your applicant to provide detailed Item 21 attachments including make and model number and functions and </a:t>
                      </a:r>
                      <a:r>
                        <a:rPr b="1" lang="en-US" sz="1800" spc="-1" strike="noStrike">
                          <a:solidFill>
                            <a:srgbClr val="000000"/>
                          </a:solidFill>
                          <a:latin typeface="Arial"/>
                        </a:rPr>
                        <a:t>submit with the applica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ind applicants to include function for servers, cost allocation, &amp; any certific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3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4921-A4E9-4CE7-B81A-8B434D9A3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Hurdles</a:t>
            </a:r>
            <a:endParaRPr b="0" lang="en-US" sz="4000" spc="-1" strike="noStrike">
              <a:solidFill>
                <a:srgbClr val="000000"/>
              </a:solidFill>
              <a:latin typeface="Arial"/>
            </a:endParaRPr>
          </a:p>
        </p:txBody>
      </p:sp>
      <p:graphicFrame>
        <p:nvGraphicFramePr>
          <p:cNvPr id="234" name=""/>
          <p:cNvGraphicFramePr/>
          <p:nvPr/>
        </p:nvGraphicFramePr>
        <p:xfrm>
          <a:off x="457200" y="1152360"/>
          <a:ext cx="8229600" cy="512604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provided during PIA review is inconsistent with the information on Form 4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r must reach out and resolve the discrepa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0 days + 1 week for 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 1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your applicant to review the information that will be included in your funding request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for a copy of the submitted Item 2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the one writing the contract, provide clear (and possibly separate list) of the eligible components, specific information related to invoicing (pre-payments or progress payments) and other program compliance related inform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3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CAB1-2961-4864-B4EB-F590E4E15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um Hurdles</a:t>
            </a:r>
            <a:endParaRPr b="0" lang="en-US" sz="4000" spc="-1" strike="noStrike">
              <a:solidFill>
                <a:srgbClr val="000000"/>
              </a:solidFill>
              <a:latin typeface="Arial"/>
            </a:endParaRPr>
          </a:p>
        </p:txBody>
      </p:sp>
      <p:graphicFrame>
        <p:nvGraphicFramePr>
          <p:cNvPr id="237" name=""/>
          <p:cNvGraphicFramePr/>
          <p:nvPr/>
        </p:nvGraphicFramePr>
        <p:xfrm>
          <a:off x="457200" y="1274760"/>
          <a:ext cx="8229600" cy="4313160"/>
        </p:xfrm>
        <a:graphic>
          <a:graphicData uri="http://schemas.openxmlformats.org/drawingml/2006/table">
            <a:tbl>
              <a:tblPr/>
              <a:tblGrid>
                <a:gridCol w="1600200"/>
                <a:gridCol w="5029200"/>
                <a:gridCol w="160020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triggers criteria for Selective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get a Selective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submit significantly more information, which takes time to gather and review. PIA may ask follow up question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ust go through multi-level review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90 day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mpletely avoidable but made easier b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all program rules, as well as state and local laws and regulation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set of docum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3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8249-34F1-4107-BEAC-9A7C163EE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um Hurdles</a:t>
            </a:r>
            <a:endParaRPr b="0" lang="en-US" sz="4000" spc="-1" strike="noStrike">
              <a:solidFill>
                <a:srgbClr val="000000"/>
              </a:solidFill>
              <a:latin typeface="Arial"/>
            </a:endParaRPr>
          </a:p>
        </p:txBody>
      </p:sp>
      <p:graphicFrame>
        <p:nvGraphicFramePr>
          <p:cNvPr id="240" name=""/>
          <p:cNvGraphicFramePr/>
          <p:nvPr/>
        </p:nvGraphicFramePr>
        <p:xfrm>
          <a:off x="457200" y="1143000"/>
          <a:ext cx="8229600" cy="5400720"/>
        </p:xfrm>
        <a:graphic>
          <a:graphicData uri="http://schemas.openxmlformats.org/drawingml/2006/table">
            <a:tbl>
              <a:tblPr/>
              <a:tblGrid>
                <a:gridCol w="1600200"/>
                <a:gridCol w="5029200"/>
                <a:gridCol w="160020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requests funding for very expensive widget and/or very expensive mainte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3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undergoes Cost Effectiveness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gather support for why widget/maintenance was selected, and explain why such an expensive product or service is necessar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ust go through multi-level review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45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ervices that you are proposing are “right size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ircumstances dictate an expensive solution, be prepared to explain why that solution is necessary and cost-effectiv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4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D1D5-2B38-44C6-94EC-BC875DE78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um Hurdles</a:t>
            </a:r>
            <a:endParaRPr b="0" lang="en-US" sz="4000" spc="-1" strike="noStrike">
              <a:solidFill>
                <a:srgbClr val="000000"/>
              </a:solidFill>
              <a:latin typeface="Arial"/>
            </a:endParaRPr>
          </a:p>
        </p:txBody>
      </p:sp>
      <p:graphicFrame>
        <p:nvGraphicFramePr>
          <p:cNvPr id="243" name=""/>
          <p:cNvGraphicFramePr/>
          <p:nvPr/>
        </p:nvGraphicFramePr>
        <p:xfrm>
          <a:off x="457200" y="1274760"/>
          <a:ext cx="8229600" cy="512604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 Provider fails to file FCC Form 4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total: function of your time to file Form 4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loses their “Y” and is ineligible to provide telecommunications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loses business as applicants are given the opportunity to change to a different provider during PIA review.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that stay with you can lose their telecommunications fund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your FCC Form 499 on ti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your Filer ID on the Form 499</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officers aware of filing requirements and importance of the corresponde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4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F7C8-FB71-4935-A88B-96158C73C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46" name=""/>
          <p:cNvGraphicFramePr/>
          <p:nvPr/>
        </p:nvGraphicFramePr>
        <p:xfrm>
          <a:off x="457200" y="1219320"/>
          <a:ext cx="8229600" cy="485136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 Beneficiary audit discovers delivery of ineligible equipment to eligible and ineligible locations after the payment of an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ar for audit process to compl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 initiates audit response process and possibly COMAD/RID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gather and submit additional informa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may ask additional question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s may be reviewed by senior staff</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rescinded; $ may be recover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issuance of pending commit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payment of pending invoi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20 day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4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3C38-24AF-41B7-87F3-C130E0226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bidding Discussions</a:t>
            </a:r>
            <a:endParaRPr b="0" lang="en-US" sz="40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ma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ir product offering with SP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new technologies from SPs</a:t>
            </a:r>
            <a:endParaRPr b="0" lang="en-US" sz="2800" spc="-1" strike="noStrike">
              <a:solidFill>
                <a:srgbClr val="000000"/>
              </a:solidFill>
              <a:latin typeface="Arial"/>
            </a:endParaRPr>
          </a:p>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may </a:t>
            </a:r>
            <a:r>
              <a:rPr b="0" lang="en-US" sz="3200" spc="-1" strike="noStrike">
                <a:solidFill>
                  <a:srgbClr val="ff0000"/>
                </a:solidFill>
                <a:latin typeface="Arial"/>
              </a:rPr>
              <a:t>NOT</a:t>
            </a:r>
            <a:r>
              <a:rPr b="0" lang="en-US" sz="3200" spc="-1" strike="noStrike">
                <a:solidFill>
                  <a:srgbClr val="000000"/>
                </a:solidFill>
                <a:latin typeface="Arial"/>
              </a:rPr>
              <a:t> accept/use the following from service provider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specific language for RFP or the 470</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 RFPs or Forms 470</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tech plan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RFP</a:t>
            </a:r>
            <a:endParaRPr b="0" lang="en-US" sz="2800" spc="-1" strike="noStrike">
              <a:solidFill>
                <a:srgbClr val="000000"/>
              </a:solidFill>
              <a:latin typeface="Arial"/>
            </a:endParaRPr>
          </a:p>
        </p:txBody>
      </p:sp>
      <p:sp>
        <p:nvSpPr>
          <p:cNvPr id="14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FE0E-8572-488D-9B02-C57720D33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49" name=""/>
          <p:cNvGraphicFramePr/>
          <p:nvPr/>
        </p:nvGraphicFramePr>
        <p:xfrm>
          <a:off x="457200" y="1274760"/>
          <a:ext cx="8229600" cy="513072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of the audit, applicant must return funds to USAC and fails to pay on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Red Light is turned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no payments within 30 days from the Notice of Dismissal Letter, all pending funding requests are denie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cannot invoice for the services that were in the pending reque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45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problem that resulted in the COMA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voiced by USAC pay, or if disagree, appeal within the required timefram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50"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104F-3616-4780-9706-1FAE2258B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52" name=""/>
          <p:cNvGraphicFramePr/>
          <p:nvPr/>
        </p:nvGraphicFramePr>
        <p:xfrm>
          <a:off x="457200" y="1274760"/>
          <a:ext cx="8229600" cy="458136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of the audit, service provider must return funds to USAC and fails to pay on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 Red Light is turned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voices are hel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are not forthcoming for pending invoi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payment is m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problem that resulted in the COMA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voiced by USAC pay, or if disagree, appeal within the required timefram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5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8C2A-B40D-4975-91BE-514A938DC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55" name=""/>
          <p:cNvGraphicFramePr/>
          <p:nvPr/>
        </p:nvGraphicFramePr>
        <p:xfrm>
          <a:off x="457200" y="1219320"/>
          <a:ext cx="8229600" cy="476568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of the audit, applicant and/or SP is deemed a non-compliant audite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 initiates non-compliant auditee proce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update their processes and procedures that lead to the audit finding and then demonstrate to USAC that additional controls have been put in place that will prevent the same problem from recurr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is put on hold during this time.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s may be reviewed by senior staff</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issuance of pending commit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payment of pending invoice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response by due date, pending funding is deni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56"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931A-26F7-47B3-8D1A-E1938368B1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58" name=""/>
          <p:cNvGraphicFramePr/>
          <p:nvPr/>
        </p:nvGraphicFramePr>
        <p:xfrm>
          <a:off x="457200" y="1447920"/>
          <a:ext cx="8229600" cy="320508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problem that resulted in the COMA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robust set of internal controls and provide training to your employees to ensure all members of your organization “know the ru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bl>
          </a:graphicData>
        </a:graphic>
      </p:graphicFrame>
      <p:sp>
        <p:nvSpPr>
          <p:cNvPr id="25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F7C3-68A8-4B13-9358-143E44C882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61" name=""/>
          <p:cNvGraphicFramePr/>
          <p:nvPr/>
        </p:nvGraphicFramePr>
        <p:xfrm>
          <a:off x="457200" y="1274760"/>
          <a:ext cx="8229600" cy="475920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acts as the Applicant’s Consultan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stleblower call comes into US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undergoes heightened scrutiny by various review te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90 day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has to gather and submit additional documentation.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may ask additional questions, and even conduct on-site intervie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ecisions reviewed by senior USAC staff</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commitments are put on hol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invoices may also be put on hol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payment of pending invoi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90 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6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0562-1A87-4F9F-80F0-961DBDE6B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64" name=""/>
          <p:cNvGraphicFramePr/>
          <p:nvPr/>
        </p:nvGraphicFramePr>
        <p:xfrm>
          <a:off x="457200" y="1447920"/>
          <a:ext cx="8229600" cy="3754440"/>
        </p:xfrm>
        <a:graphic>
          <a:graphicData uri="http://schemas.openxmlformats.org/drawingml/2006/table">
            <a:tbl>
              <a:tblPr/>
              <a:tblGrid>
                <a:gridCol w="1600200"/>
                <a:gridCol w="5029200"/>
                <a:gridCol w="160020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t as the applicant’s consult, or take actions that may give the APPEARANCE of doing so. This includes providing any assistance for any competitive bidding item including the Form 470 and/or the RFP.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robust set of internal controls and provide training to your employees to ensure all members of your organization “know the ru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bl>
          </a:graphicData>
        </a:graphic>
      </p:graphicFrame>
      <p:sp>
        <p:nvSpPr>
          <p:cNvPr id="26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3309-0486-4529-A733-8F4A1DA04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67" name=""/>
          <p:cNvGraphicFramePr/>
          <p:nvPr/>
        </p:nvGraphicFramePr>
        <p:xfrm>
          <a:off x="457200" y="1274760"/>
          <a:ext cx="8229600" cy="475920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and/or applicant engages in fraud or anti-competitive conduct, including conflict-of-interest, market allocation, collusion, bid-rigging, etc.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stleblower call come in to US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undergoes heightened scrutiny by a variety of review team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8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commitments are put on hol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invoices may also be put on hol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has to gather and submit additional information.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may ask additional questions, and even conduct on-site intervie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application by senior USAC sta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6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8075-00BF-48BF-AA6E-0283EAB19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70" name=""/>
          <p:cNvGraphicFramePr/>
          <p:nvPr/>
        </p:nvGraphicFramePr>
        <p:xfrm>
          <a:off x="457200" y="1447920"/>
          <a:ext cx="8229600" cy="384480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 enforcement agencies launch own investigations, possibly resulting in civil or criminal actions, including trials, which can result in fines and/or pris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t; 1 yea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engage in illegal activity.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robust set of internal controls and provide training to your employees to ensure all members of your organization “know the ru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7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F889-7E02-46AD-9E60-E590B69FB8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05CE-5788-4218-AC74-B5E1BD373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1D57-B4B4-4039-B74D-C8EB66141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 Plan Requirements</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chools and libraries</a:t>
            </a:r>
            <a:endParaRPr b="0" lang="en-US" sz="3200" spc="-1" strike="noStrike">
              <a:solidFill>
                <a:srgbClr val="000000"/>
              </a:solidFill>
              <a:latin typeface="Arial"/>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must precede Form 470/RFP </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 and year that the plan is “written”</a:t>
            </a:r>
            <a:endParaRPr b="0" lang="en-US" sz="2800" spc="-1" strike="noStrike">
              <a:solidFill>
                <a:srgbClr val="000000"/>
              </a:solidFill>
              <a:latin typeface="Arial"/>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element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strategy for using technolog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strateg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ssessmen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budge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1D16-CE73-4DA8-8283-78C3095EA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 Plan Requirements</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speeds and feeds”</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detail to </a:t>
            </a:r>
            <a:r>
              <a:rPr b="0" lang="en-US" sz="3200" spc="-1" strike="noStrike">
                <a:solidFill>
                  <a:srgbClr val="ff0000"/>
                </a:solidFill>
                <a:latin typeface="Arial"/>
              </a:rPr>
              <a:t>support and validate the services</a:t>
            </a:r>
            <a:r>
              <a:rPr b="0" lang="en-US" sz="3200" spc="-1" strike="noStrike">
                <a:solidFill>
                  <a:srgbClr val="000000"/>
                </a:solidFill>
                <a:latin typeface="Arial"/>
              </a:rPr>
              <a:t> requeste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all 12 months of the funding year</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pproved by a USAC-certified Technology Plan Approver (TPA) before Form 486 is filed or services start, whichever is sooner</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cover not more than 3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3B97-271C-45B9-98D9-A910D11F8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titive Bidding</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air and open competitive bidding proc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onflicts of interes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consultant </a:t>
            </a:r>
            <a:r>
              <a:rPr b="0" lang="en-US" sz="2400" spc="-1" strike="noStrike">
                <a:solidFill>
                  <a:srgbClr val="000000"/>
                </a:solidFill>
                <a:latin typeface="Wingdings"/>
                <a:ea typeface="Wingdings"/>
              </a:rPr>
              <a:t></a:t>
            </a:r>
            <a:r>
              <a:rPr b="0" lang="en-US" sz="2400" spc="-1" strike="noStrike">
                <a:solidFill>
                  <a:srgbClr val="000000"/>
                </a:solidFill>
                <a:latin typeface="Arial"/>
              </a:rPr>
              <a:t>Service Provi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 </a:t>
            </a:r>
            <a:r>
              <a:rPr b="0" lang="en-US" sz="2400" spc="-1" strike="noStrike">
                <a:solidFill>
                  <a:srgbClr val="000000"/>
                </a:solidFill>
                <a:latin typeface="Wingdings"/>
                <a:ea typeface="Wingdings"/>
              </a:rPr>
              <a:t></a:t>
            </a:r>
            <a:r>
              <a:rPr b="0" lang="en-US" sz="2400" spc="-1" strike="noStrike">
                <a:solidFill>
                  <a:srgbClr val="000000"/>
                </a:solidFill>
                <a:latin typeface="Arial"/>
              </a:rPr>
              <a:t> Service Provid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competition and bid evalu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all rules – FCC and state/loc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contract fine pri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your document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n, retain, lessen your 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1353-F44A-4D29-AC27-5D35DB4D16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470</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e services and categories of service which entities are seeking</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based on tech plan</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posted for 28 days </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if they are planning/have issued RFP</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any special requirements and/or disqualification factors</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who will be receiving the servic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3DD9-790B-484C-9045-BB2CEA037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ests for Proposal</a:t>
            </a:r>
            <a:endParaRPr b="0" lang="en-US" sz="4000" spc="-1" strike="noStrike">
              <a:solidFill>
                <a:srgbClr val="000000"/>
              </a:solidFill>
              <a:latin typeface="Arial"/>
            </a:endParaRPr>
          </a:p>
        </p:txBody>
      </p:sp>
      <p:sp>
        <p:nvSpPr>
          <p:cNvPr id="157" name="PlaceHolder 2"/>
          <p:cNvSpPr>
            <a:spLocks noGrp="1"/>
          </p:cNvSpPr>
          <p:nvPr>
            <p:ph/>
          </p:nvPr>
        </p:nvSpPr>
        <p:spPr>
          <a:xfrm>
            <a:off x="457200" y="1417680"/>
            <a:ext cx="8229600" cy="452592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C rules do not require RFP but state and local procurement rules may</a:t>
            </a:r>
            <a:endParaRPr b="0" lang="en-US" sz="3200" spc="-1" strike="noStrike">
              <a:solidFill>
                <a:srgbClr val="000000"/>
              </a:solidFill>
              <a:latin typeface="Arial"/>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based on entities’ tech plan</a:t>
            </a:r>
            <a:endParaRPr b="0" lang="en-US" sz="3200" spc="-1" strike="noStrike">
              <a:solidFill>
                <a:srgbClr val="000000"/>
              </a:solidFill>
              <a:latin typeface="Arial"/>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available to bidders for at least 28 day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28 days from the later of the two posted (470 and RFP)</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P cannot close before 28 days for 470 is up</a:t>
            </a:r>
            <a:endParaRPr b="0" lang="en-US" sz="2800" spc="-1" strike="noStrike">
              <a:solidFill>
                <a:srgbClr val="000000"/>
              </a:solidFill>
              <a:latin typeface="Arial"/>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C rules refer to RFPs generically but they may have a variety of n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02:20Z</dcterms:created>
  <dc:creator>rreynolds</dc:creator>
  <dc:description/>
  <dc:language>en-US</dc:language>
  <cp:lastModifiedBy>Catriona Ayer</cp:lastModifiedBy>
  <dcterms:modified xsi:type="dcterms:W3CDTF">2009-09-18T16:52:38Z</dcterms:modified>
  <cp:revision>330</cp:revision>
  <dc:subject/>
  <dc:title>Slide 1</dc:title>
</cp:coreProperties>
</file>